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8E16F-E2A0-4ABF-B9EE-F5EB4DEB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BEB17-EE76-4C1B-A634-8377D914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C1481-9AD7-49B7-9AB2-E446F95C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80760-2427-4D8C-88A1-5FB85A3D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AD93-7CB8-403D-A655-475E7A70F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0848-2776-4C13-A4AF-439321C2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ECE3-A1B1-4BA9-85D3-C2ACB780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6DAE-71BC-42AB-A7D6-623172C6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D972-D464-4FDB-9B73-40DD150F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BF3C-B22E-449D-A1BC-8BB394F2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D6C3-922E-4CD3-AB43-3F2F72A7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9359D-FD89-4222-8715-ECCADBEE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FD78-1BE0-438A-BB90-9DA3448D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169F-45CC-4927-979F-358F59E4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1EC8-FE2A-43FA-884E-834F9908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C124-DDC0-4D05-B615-369290AAE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970C-E5FC-41D4-9477-BC89639D3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326E7-3BC4-4C84-B4C6-DF74738D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A7DB8-0251-4551-9BA6-8AD218A7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E1554-CD1A-429F-97F8-75BD6A2B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CCC95-22FF-4BAE-B23C-F8FF1740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10420-DD83-4B2B-8BE0-211D131C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92562-D184-44C6-A523-45E1C7E4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DC258-7C27-4FDA-8680-E52D4876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384F-BE41-445C-86CD-ACF64B0259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8CC5-82FC-4759-A748-4B69FE266A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Логопедические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полнил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удентки 617 гр. Сухарькова Вероника и Урбан Татья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3588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врики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ие буквы ты видишь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980640"/>
            <a:ext cx="40384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правильная бу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равь одну букву и прочти сло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2779560"/>
            <a:ext cx="4038480" cy="2289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Исправь одну букву и прочти слово"/>
          <p:cNvPicPr/>
          <p:nvPr/>
        </p:nvPicPr>
        <p:blipFill>
          <a:blip r:embed="rId2"/>
          <a:stretch/>
        </p:blipFill>
        <p:spPr>
          <a:xfrm>
            <a:off x="5003640" y="1916280"/>
            <a:ext cx="3822840" cy="4546440"/>
          </a:xfrm>
          <a:prstGeom prst="rect">
            <a:avLst/>
          </a:prstGeom>
          <a:ln w="0">
            <a:noFill/>
          </a:ln>
        </p:spPr>
      </p:pic>
    </p:spTree>
  </p:cSld>
  <p:transition advTm="11000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звитие зрительного внимания</a:t>
            </a: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утаница (анаграм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иши буквы в клеточках, проследив линию, и прочти получившееся сло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Напиши буквы в клеточках"/>
          <p:cNvPicPr/>
          <p:nvPr/>
        </p:nvPicPr>
        <p:blipFill>
          <a:blip r:embed="rId1"/>
          <a:stretch/>
        </p:blipFill>
        <p:spPr>
          <a:xfrm>
            <a:off x="1763640" y="2421000"/>
            <a:ext cx="5112000" cy="3981240"/>
          </a:xfrm>
          <a:prstGeom prst="rect">
            <a:avLst/>
          </a:prstGeom>
          <a:ln w="0">
            <a:noFill/>
          </a:ln>
        </p:spPr>
      </p:pic>
    </p:spTree>
  </p:cSld>
  <p:transition advTm="11000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спутай сло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пиши слоги в клетки и прочитай слова, которые у тебя получил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Впиши слоги в клетки"/>
          <p:cNvPicPr/>
          <p:nvPr/>
        </p:nvPicPr>
        <p:blipFill>
          <a:blip r:embed="rId1"/>
          <a:stretch/>
        </p:blipFill>
        <p:spPr>
          <a:xfrm>
            <a:off x="1547640" y="2421000"/>
            <a:ext cx="5848560" cy="400032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57240" y="2273400"/>
            <a:ext cx="7229520" cy="23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3000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457200"/>
            <a:ext cx="8147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формировать необходимые для обучения навыки; применять имеющиеся знания в различных условиях; развивать внимание, мышление, волю и любознательность. Увлекательные игры для дошкольников и первоклассников помогут закрепить элементарные знания по фонетике, освоить и развить навыки чтения, закрепить прочный фундамент грамотного пись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16000" y="907920"/>
            <a:ext cx="6648480" cy="62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Цель логопедических игр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advTm="8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ставление слов из бук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915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сстанови алфав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тавь букву, которая должна идти по алфави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79280" y="4000680"/>
            <a:ext cx="850752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с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иши соседей буквы — предыдущую и последующ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Вставь букву"/>
          <p:cNvPicPr/>
          <p:nvPr/>
        </p:nvPicPr>
        <p:blipFill>
          <a:blip r:embed="rId1"/>
          <a:stretch/>
        </p:blipFill>
        <p:spPr>
          <a:xfrm>
            <a:off x="324000" y="2276640"/>
            <a:ext cx="5781600" cy="1504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соседей буквы"/>
          <p:cNvPicPr/>
          <p:nvPr/>
        </p:nvPicPr>
        <p:blipFill>
          <a:blip r:embed="rId2"/>
          <a:stretch/>
        </p:blipFill>
        <p:spPr>
          <a:xfrm>
            <a:off x="539640" y="5013360"/>
            <a:ext cx="5295960" cy="139068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звитие мышления и обогащение лекси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етий лиш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ой звук лишний и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ПИ(П — согласн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ЖШЧ(Ч — мяг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А(А — гласн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ЙЧЦ(Ц — твёрд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ТМ(М — звон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ЖЦ(Ч — мяг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ВК(К — глухо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ШЙЩ(Ш — твёрдый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вой кроссвордё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пиши слова в клеточки так, чтобы они пересекались первыми и последними бук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19640" y="3716280"/>
            <a:ext cx="3024360" cy="2718000"/>
          </a:xfrm>
          <a:prstGeom prst="rect">
            <a:avLst/>
          </a:prstGeom>
          <a:ln w="0">
            <a:noFill/>
          </a:ln>
        </p:spPr>
      </p:pic>
    </p:spTree>
  </p:cSld>
  <p:transition advTm="14000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765000"/>
            <a:ext cx="814716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айнворд «Лесенк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50920" y="1052280"/>
            <a:ext cx="4316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гадай слова и впиши их в указанном стрелками направлении. Последняя буква первого слова является одновременно первой буквой второго слова и т. д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Рыба, живущая у дн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Месяц весны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Лекарство для смазывания царапин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Вьётся из трубы, когда топят печь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Им пишут на доске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Папа лисят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Его заметают на совок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То, чем бодается коров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Он загорается, когда к плите подносят спич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8320" y="1341360"/>
            <a:ext cx="4038480" cy="5112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Чайнворд Лесенка"/>
          <p:cNvPicPr/>
          <p:nvPr/>
        </p:nvPicPr>
        <p:blipFill>
          <a:blip r:embed="rId2"/>
          <a:stretch/>
        </p:blipFill>
        <p:spPr>
          <a:xfrm>
            <a:off x="4284720" y="2060640"/>
            <a:ext cx="4583160" cy="333360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вуко-буквенный анали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91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л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ди волнистую линию так, чтобы гласные остались сверху, а согласные — сни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рисунок звуко-буквенный анализ"/>
          <p:cNvPicPr/>
          <p:nvPr/>
        </p:nvPicPr>
        <p:blipFill>
          <a:blip r:embed="rId1"/>
          <a:stretch/>
        </p:blipFill>
        <p:spPr>
          <a:xfrm>
            <a:off x="395280" y="2852640"/>
            <a:ext cx="8064360" cy="328320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456840"/>
            <a:ext cx="821844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вуко-буквенный синтез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нобукв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 и выпиши все большие буквы и составь слово, найди и выпиши все маленькие буквы и составь слов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 все большие белые буквы, все большие чёрные буквы, все маленькие белые, все маленькие чёрные и составь из них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Найди и выпиши все большие буквы"/>
          <p:cNvPicPr/>
          <p:nvPr/>
        </p:nvPicPr>
        <p:blipFill>
          <a:blip r:embed="rId1"/>
          <a:stretch/>
        </p:blipFill>
        <p:spPr>
          <a:xfrm>
            <a:off x="684360" y="3213000"/>
            <a:ext cx="7740360" cy="311148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логовое доми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1844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уб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каждом кубике — буквы одного слова, на каждой грани кубика — одна буква. Напиши в клетках внизу те буквы, которые не вид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На каждом кубике — буквы одного слова"/>
          <p:cNvPicPr/>
          <p:nvPr/>
        </p:nvPicPr>
        <p:blipFill>
          <a:blip r:embed="rId1"/>
          <a:stretch/>
        </p:blipFill>
        <p:spPr>
          <a:xfrm>
            <a:off x="1258920" y="2708280"/>
            <a:ext cx="6467400" cy="3762360"/>
          </a:xfrm>
          <a:prstGeom prst="rect">
            <a:avLst/>
          </a:prstGeom>
          <a:ln w="0">
            <a:noFill/>
          </a:ln>
        </p:spPr>
      </p:pic>
    </p:spTree>
  </p:cSld>
  <p:transition advTm="4000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гры с буквам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уквы-сестри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йди все одинаковые буквы. О — обведи в кружок, У — в квадрат, И — подчерк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делай 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ие буквы можно сделать из этих заготов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О — обведи в кружок"/>
          <p:cNvPicPr/>
          <p:nvPr/>
        </p:nvPicPr>
        <p:blipFill>
          <a:blip r:embed="rId1"/>
          <a:stretch/>
        </p:blipFill>
        <p:spPr>
          <a:xfrm>
            <a:off x="684360" y="2565360"/>
            <a:ext cx="4819680" cy="466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Сделай буквы"/>
          <p:cNvPicPr/>
          <p:nvPr/>
        </p:nvPicPr>
        <p:blipFill>
          <a:blip r:embed="rId2"/>
          <a:stretch/>
        </p:blipFill>
        <p:spPr>
          <a:xfrm>
            <a:off x="755640" y="4365720"/>
            <a:ext cx="5810400" cy="183816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6:17:31Z</dcterms:created>
  <dc:creator>студент</dc:creator>
  <dc:description/>
  <dc:language>en-US</dc:language>
  <cp:lastModifiedBy>студент</cp:lastModifiedBy>
  <dcterms:modified xsi:type="dcterms:W3CDTF">2012-04-17T07:13:56Z</dcterms:modified>
  <cp:revision>3</cp:revision>
  <dc:subject/>
  <dc:title>Логопедические</dc:title>
</cp:coreProperties>
</file>